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5.wmf" ContentType="image/x-wmf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68A-70A3-4E9F-A10C-61791EFC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CB2-0B9E-4C95-96A6-7DE9535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55A-7A64-4E03-8DC3-F1027211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53C-71A8-4774-9C87-E7D8872C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EA6D-8343-4979-8995-49697A87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4E26-C31E-4967-9CD1-904AB1F8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68D7-BBEF-418F-BDB0-D4D5CDF1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CF75-782A-4BBA-9CA4-0661B191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5223-372C-4C73-9D3B-5035972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5D18-8E57-49C1-8970-F71D8720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80B8-5788-4C56-99AA-F90D76BC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323-9A1E-4211-A995-D7268862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1674-32C6-4138-82F4-BCA87D94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A974-8873-4F75-A86E-39E00B8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3F28-66FD-43CA-9A72-F31E4667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C5C5-ABF2-465E-9688-17EAFB0A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5D5F-C1ED-4792-AF78-80D85E41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BFC-2997-4A5F-9E47-4AF6E936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8F2-13D8-449F-9CB5-8B005C2C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C37-6073-4CC2-AF99-F2564047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14F-99B1-42EC-91BC-8A447F2A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6C2-2112-42EA-8C0F-9B04157B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670-E1A6-4D76-B4D9-160A2D4A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728-6464-4079-8938-059C259E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F527-5E1F-4368-952D-C52A38E7D6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46FB-55B8-49B9-87E8-8A328B7FE7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iD9FSp_tMw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ation and Defla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27080"/>
            <a:ext cx="6049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Quantity Theory of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netarists argue that the velocity of circulation of money is broadly predictable and therefore assumed to be const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 and Y (real GDP) tends to increase slowly over time and thus is assumed to be constant in any one ye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f V and T (Y) are held constant then changes in the rate of growth of the money supply will lead directly to changes in the general pric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o as money supply increases so does infl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iD9FSp_tM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300720" y="260280"/>
            <a:ext cx="2698920" cy="1739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antity Theory of Money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heory that increase in the money supply will lead to increases in the pri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276960" y="2168640"/>
            <a:ext cx="27003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locity of circ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times the money supply changes hands in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319800" y="3583080"/>
            <a:ext cx="273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y duck inflation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6319800" y="4187880"/>
            <a:ext cx="27352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Consequences of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ow and stable inflation is often seen as an indicator of a healthy econo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yperinflation indicates an economy out of contr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re are a variety of consequ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99"/>
                </a:solidFill>
                <a:latin typeface="Arial"/>
              </a:rPr>
              <a:t>International competitive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inflation is higher in the UK than other international competitors UK goods and services will become less price competitive (ceteris parib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round 30% of the UK’s GDP is generated by exports and a similar value is impor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potential effect on growth, employment and the balance of payments is significa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xporting firms may need to make redundancies and revenues will fa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X reduces X-I will reduce which will reducing growth of AD and an output g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48360" y="189000"/>
            <a:ext cx="39956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iner’s tip: try to remember the detail of three or four costs for consequences of inflation for your Unit 4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Uk_exports_thumb"/>
          <p:cNvPicPr/>
          <p:nvPr/>
        </p:nvPicPr>
        <p:blipFill>
          <a:blip r:embed="rId1"/>
          <a:stretch/>
        </p:blipFill>
        <p:spPr>
          <a:xfrm>
            <a:off x="5364000" y="2373480"/>
            <a:ext cx="374652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Consequences of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re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Effect on Inves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ment by firms needs future certainty and optim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lation causes uncertainty of costs, revenues and therefore profi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ment levels may f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or investment over time will affect growth, employment and the balance of pay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Menu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 administrative cost of frequent changes in good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se costs may be passed on to the consumer contributing to cost push 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investment1"/>
          <p:cNvPicPr/>
          <p:nvPr/>
        </p:nvPicPr>
        <p:blipFill>
          <a:blip r:embed="rId1"/>
          <a:stretch/>
        </p:blipFill>
        <p:spPr>
          <a:xfrm>
            <a:off x="5402160" y="1046160"/>
            <a:ext cx="3384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nsequences of inf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anticipated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difference between anticipated (expected) and unanticipated (not expected)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eople expect inflation of 2% but inflation is 4% there is unexpected inflation of 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what leads to uncertainty that undermines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nticipated inflation is likely to happen when inflation is unstable and high which is why the UK government tries hard to keep it low and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urprised-wome_300"/>
          <p:cNvPicPr/>
          <p:nvPr/>
        </p:nvPicPr>
        <p:blipFill>
          <a:blip r:embed="rId1"/>
          <a:stretch/>
        </p:blipFill>
        <p:spPr>
          <a:xfrm>
            <a:off x="5759280" y="1341360"/>
            <a:ext cx="32194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127080"/>
            <a:ext cx="6049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onsequences of inf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hoe leathe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prices are rising consumers will spend more time, effort and possibly money shopping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evokes the image of people pacing the high street but in reality consumers and firms are more likely to carry out the search by telephone or the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ffect on distribution of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mportant source of economic injustice and social un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lation creates winners and lo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nners are the borrowers whose future payment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osers will be savers who have a variable return for example pensioners who will see their purchasing power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 could index link pensions and benefits to make sure they are in line with inf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worn+out+shoes1"/>
          <p:cNvPicPr/>
          <p:nvPr/>
        </p:nvPicPr>
        <p:blipFill>
          <a:blip r:embed="rId1"/>
          <a:stretch/>
        </p:blipFill>
        <p:spPr>
          <a:xfrm>
            <a:off x="6216480" y="1106640"/>
            <a:ext cx="26924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27000"/>
            <a:ext cx="60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nsequences of inflation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orsening industri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dman’s comment is very melodramatic but it is true that strikes can be widespread during periods of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ers feel that they are losing out and fight for more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scal d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ever you see the word ‘drag’ think about something dragging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bout tax allowances being behind inflation; it is not keeping up with inflation and people are worse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omeone has a tax allowance of £5000 and earns £5000 they will pay no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prices rise by 10% and income rises the same amount that person will then be paid £5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will now be taxed around 20% of the £500 (£100) and therefore be worse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hancellor can increase the tax free allowance in line with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156360" y="333360"/>
            <a:ext cx="2612880" cy="2014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lation tears at the fabric of society and sets up groups of workers against one another in increasingly violent conflict’ – Milton Fried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156360" y="2492280"/>
            <a:ext cx="261288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scal dra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increases in the burden of taxation when tax allowances are not increased in line with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04"/>
          <p:cNvPicPr/>
          <p:nvPr/>
        </p:nvPicPr>
        <p:blipFill>
          <a:blip r:embed="rId1"/>
          <a:stretch/>
        </p:blipFill>
        <p:spPr>
          <a:xfrm>
            <a:off x="6192720" y="4508640"/>
            <a:ext cx="3203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475272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onsequences of inflation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- Hyper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regarded as inflation in excess of 1000%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urrency is effectively destroyed and cannot be used as a medium of exchange or a store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conomic system would resort to b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Zimbabwe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zimbabwe-cash-inflation"/>
          <p:cNvPicPr/>
          <p:nvPr/>
        </p:nvPicPr>
        <p:blipFill>
          <a:blip r:embed="rId1"/>
          <a:stretch/>
        </p:blipFill>
        <p:spPr>
          <a:xfrm>
            <a:off x="5364000" y="692280"/>
            <a:ext cx="3318120" cy="44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8"/>
          <p:cNvGraphicFramePr/>
          <p:nvPr/>
        </p:nvGraphicFramePr>
        <p:xfrm>
          <a:off x="6588000" y="5589720"/>
          <a:ext cx="914400" cy="77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5589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540036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n inflation be a good 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n says that low predictable levels of inflation provide psychological incentives for firms and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inflation rates of around 2% workers see some rise in pay (in money te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ms see revenues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uld be pure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oney 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felt to be preferable to no price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300720" y="4653000"/>
            <a:ext cx="261324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ey illu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when economic agents fail to realise that changes in money values are not the same as changes in re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227640" y="549360"/>
            <a:ext cx="261324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eping inflation lubricates the wheels of industry’ – G.C.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MoneyIllusion17_thumb"/>
          <p:cNvPicPr/>
          <p:nvPr/>
        </p:nvPicPr>
        <p:blipFill>
          <a:blip r:embed="rId1"/>
          <a:stretch/>
        </p:blipFill>
        <p:spPr>
          <a:xfrm>
            <a:off x="6156360" y="1557360"/>
            <a:ext cx="28033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5400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n inflation be a good 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reality 0% inflation and a 0% wage is the same as 2% inflation and a 2% p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ychologically the second option is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arget of 2% plus or minus 1% suggest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difficult to hit a target with any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ust be reasons why governments prefer gentle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een as equally bad if you undershoot the target as it is to overshoot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celebs-money-illusion18"/>
          <p:cNvPicPr/>
          <p:nvPr/>
        </p:nvPicPr>
        <p:blipFill>
          <a:blip r:embed="rId1"/>
          <a:stretch/>
        </p:blipFill>
        <p:spPr>
          <a:xfrm>
            <a:off x="5738760" y="1268280"/>
            <a:ext cx="32004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0920" y="128160"/>
            <a:ext cx="446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 is good deflation and bad def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Good deflation (benig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comes about from the LRAS shif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utput will increase and price levels with f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assumes that AD remains (ceteris parib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will also give a lower level of unemployment (derived demand for labour from the increased demand for good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4716360" y="333360"/>
            <a:ext cx="4268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 persistent fall in the average price level in the economy usually measured with the CPI (Consumer Price 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0" r="50004" b="12094"/>
          <a:stretch/>
        </p:blipFill>
        <p:spPr>
          <a:xfrm>
            <a:off x="5099040" y="2976480"/>
            <a:ext cx="3886200" cy="3875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5580000" y="1724040"/>
            <a:ext cx="3276720" cy="1465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iagram is technically incorrect because it still shows inflation (prices are above 0) and there really is no diagram to draw for de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908000" y="5651640"/>
            <a:ext cx="3384720" cy="9169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ign de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falling prices resulting from technological advances across the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402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ost common way of measuring this in the UK is the C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the rate of inflation is published it means the percentage increase in the CPI over the previous 12 months (annual infl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learn micro economics we see that prices go up and down all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macro we are describing a general movement of all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urrent CPI target is 2% plus or minus 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diagram shows recent UK data for both the RPI and the C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PI excludes housing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164360" y="189000"/>
            <a:ext cx="172728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 sustained increase in the general pri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003640" y="5229360"/>
            <a:ext cx="388944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er Price Ind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he headline measure of inflation derived from movements in a weighted basket of consumer goods over a 12 month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724360" y="242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fig 12.1 P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26379" t="21645" r="26967" b="28272"/>
          <a:stretch/>
        </p:blipFill>
        <p:spPr>
          <a:xfrm>
            <a:off x="5003640" y="2133720"/>
            <a:ext cx="38163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http://www.google.co.uk/url?source=imglanding&amp;ct=img&amp;q=http://www.marketoracle.co.uk/images/2009/July/deflation-6-5.jpg&amp;sa=X&amp;ei=-KGwT6KrJ4KnhAfs-ZzgCA&amp;ved=0CAwQ8wc&amp;usg=AFQjCNE5tG4yJqqrLwaH1B3aaG-_rzEzbA"/>
          <p:cNvPicPr/>
          <p:nvPr/>
        </p:nvPicPr>
        <p:blipFill>
          <a:blip r:embed="rId1"/>
          <a:srcRect l="9660" t="11465" r="6236" b="6294"/>
          <a:stretch/>
        </p:blipFill>
        <p:spPr>
          <a:xfrm>
            <a:off x="4975200" y="2349360"/>
            <a:ext cx="4165560" cy="2984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50560" y="6156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ad deflation (malevol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mes about from AD shi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wnwards shift of AD will result in lower price levels but also lower output (less grow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uld lead to an increase in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and for goods and services will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is a derive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eople think prices will go down they will put of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y see prices fall this will confirm thei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ill further put off consumption and AD will keep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6084720" y="328680"/>
            <a:ext cx="223236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levolent de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falling prices resulting from a significant downturn in econom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12320"/>
            <a:ext cx="540036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apan has a problem with deflation for more than a dec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nks collapsed due to bad debts and bad investments in their own stock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ople built up precautionary savings in case they lost their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depressed consumption and 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est rates were cut to 0.25% but it didn’t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amage had been d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er and business confidence crumbled with people and firms reluctant to sp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n’t confuse deflation with a falling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inflation (this is called disinfl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071509sleuth1"/>
          <p:cNvPicPr/>
          <p:nvPr/>
        </p:nvPicPr>
        <p:blipFill>
          <a:blip r:embed="rId1"/>
          <a:stretch/>
        </p:blipFill>
        <p:spPr>
          <a:xfrm>
            <a:off x="5435640" y="2284560"/>
            <a:ext cx="32637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48038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/Dis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1999 to 2000 the inflation rate rose from 1.2% to 1.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2000 to 2001 the inflation rate fell from 1.6% to 1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verage level of prices rose but at a lower rate than the previous year – dis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xt two years the inflation rate continued to fall (prices were still rising but by a smaller and smaller amou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4 the country started to experience deflation (the average level of prices fell by 0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2004 to 2005 the country was still in a period of deflation where average prices fell by 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983120" y="825480"/>
            <a:ext cx="41878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885672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o you under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period of time did Japa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in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311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http://www.google.co.uk/url?source=imglanding&amp;ct=img&amp;q=http://i.telegraph.co.uk/multimedia/archive/01116/PF-deflation_1116125c.jpg&amp;sa=X&amp;ei=k6KwT8ypGIeHhQeW_u39CA&amp;ved=0CAsQ8wc&amp;usg=AFQjCNEloQg40SDn1AVE973qmnWoM32zEg"/>
          <p:cNvPicPr/>
          <p:nvPr/>
        </p:nvPicPr>
        <p:blipFill>
          <a:blip r:embed="rId1"/>
          <a:stretch/>
        </p:blipFill>
        <p:spPr>
          <a:xfrm>
            <a:off x="5675400" y="2205000"/>
            <a:ext cx="3462120" cy="21668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63374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sts of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hough consumers may be pleased with falling prices there are many problems with de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lation is also a bit of an unknown so it is more difficult to deal with than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conomists argue that the costs of deflation are higher than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D is low businesses may lay off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rices fall consumers will put off purch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ms will have to drop prices to encourage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s will again put of purchasing believing that prices will fall further (deferred consum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 confidence drops further depressing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known as a deflationary 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 will also be put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8920" y="112320"/>
            <a:ext cx="32180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sts of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Costs to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one who has taken a loan (including house buyers who have taken a mortgage) suffers from deflation because the value of their deb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rofits are low businesses will find it difficult to pay back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may be many bankrupt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make business confidence even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859280" y="5421240"/>
            <a:ext cx="1727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y Japan Inflation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16875" t="29299" r="31328" b="33787"/>
          <a:stretch/>
        </p:blipFill>
        <p:spPr>
          <a:xfrm>
            <a:off x="3397320" y="1628640"/>
            <a:ext cx="5651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8920" y="112320"/>
            <a:ext cx="453708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b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 is now determined to get out of de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dong something called Ab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basically mass Quantitative 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youtube.com/watch?v=cJKspInAY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youtube.com/watch?v=Njp8bKpi-v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5041800" y="744480"/>
            <a:ext cx="39229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402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Consumer Price Index (C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CPI is a weighted price index used to measure the change in the prices of a typical basket of goods and ser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contents of the basket are changed each year using information from the Family expenditure Surv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hanges in weighting reflects changes in spending behaviour (the more that is spent the higher the weight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2008 fruit smoothies, muffins and USBs were included in the bas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icrowaves, 35mm camera film and CD singles were rem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716360" y="5229360"/>
            <a:ext cx="417672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mily Expenditure Surve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 representative monthly survey of UK household expenditure used to derive changes in the 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BasketOfGoods"/>
          <p:cNvPicPr/>
          <p:nvPr/>
        </p:nvPicPr>
        <p:blipFill>
          <a:blip r:embed="rId1"/>
          <a:stretch/>
        </p:blipFill>
        <p:spPr>
          <a:xfrm>
            <a:off x="5076720" y="1089000"/>
            <a:ext cx="40100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425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Using index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straight forward if you can calculate percentag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s table shows the made up index of house pr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05 is the base 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2006 there is an increase of 8.4% so the index goes up to 108.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2007 there is an increase of 20% since 2005 so the index is 120.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need to take more care when working out the percentage change from 2006 to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is not 11.6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is (120-108.4)/108.4 x 100 = 10.7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ifference between the two years divided by the original yea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43280" y="333360"/>
          <a:ext cx="4038840" cy="29178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4880" y="127080"/>
            <a:ext cx="8978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Limitations of the consumer price index as a measure of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population groups experience different rates of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is an average household and not representative of individual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ighting for tobacco or motoring expenses will be irrelevant for non smokers and those without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does not include house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tgage prices will be a high proportion of spend of younger house bu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older home owners will have paid off their mort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may overestimat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rises may hide improvements in the quality of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s and electrical goods may have gone up in price but this is due to new inno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uk_consumer_price_index_rose_in_october_at_32"/>
          <p:cNvPicPr/>
          <p:nvPr/>
        </p:nvPicPr>
        <p:blipFill>
          <a:blip r:embed="rId1"/>
          <a:stretch/>
        </p:blipFill>
        <p:spPr>
          <a:xfrm>
            <a:off x="2195640" y="4181400"/>
            <a:ext cx="42861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ere you listening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ight the CPI not be a good index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lation comes from sever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can come directly from the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domestic ec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ice strategies of leading food retailers based on the strength of demand or competitive press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rise in VAT cause firm’s production costs to go up and these being passed onto the consum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can come from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extern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in price of crude oil or other imported commodities, foodstuffs and bever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ges in exchang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alling pound against the Euro might cause higher import prices (remember WIDEC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VAT+rise+better"/>
          <p:cNvPicPr/>
          <p:nvPr/>
        </p:nvPicPr>
        <p:blipFill>
          <a:blip r:embed="rId1"/>
          <a:srcRect l="18500" t="0" r="17249" b="0"/>
          <a:stretch/>
        </p:blipFill>
        <p:spPr>
          <a:xfrm>
            <a:off x="5508720" y="333360"/>
            <a:ext cx="3127320" cy="324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ood-prices-raise"/>
          <p:cNvPicPr/>
          <p:nvPr/>
        </p:nvPicPr>
        <p:blipFill>
          <a:blip r:embed="rId2"/>
          <a:stretch/>
        </p:blipFill>
        <p:spPr>
          <a:xfrm>
            <a:off x="5796000" y="4005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two main categories of inflation ar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st push and Demand Pu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hat is Cost push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ings that cause production costs to go up and force firms to raise their prices to maintain profit marg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rise in costs of imported raw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ing labou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er indirec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ge price spir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w a diagram illustrating cost push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hat is Demand pull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ost likely to occur when there is little spare capacity in the econom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 in AD will lead to an increase in pr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hen does AD increas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hen one or more of the components incre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w a diagram illustrating demand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t A2 we add a third type – excessive growth of the money supp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867280" y="2060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diagrams on P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18697" t="25438" r="41147" b="27314"/>
          <a:stretch/>
        </p:blipFill>
        <p:spPr>
          <a:xfrm>
            <a:off x="5364000" y="917640"/>
            <a:ext cx="3670560" cy="2698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rcRect l="18697" t="26378" r="35821" b="28272"/>
          <a:stretch/>
        </p:blipFill>
        <p:spPr>
          <a:xfrm>
            <a:off x="5616720" y="4005360"/>
            <a:ext cx="35272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Quantity Theory of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evised by Irving Fisher to explain the link between money and the general pric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ased on the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Fisher equatio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or the equation of ex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s is the mathematical identity which relates aggregate demand to the total value of output (GD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99"/>
                </a:solidFill>
                <a:latin typeface="Arial"/>
              </a:rPr>
              <a:t>M x V≡ P x T or (MV≡P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 is the money supp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 is the velocity of circulation (e.g. how many times a £20 note is used to buy goods and services in yea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 is the general pric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 stands for transactions and is equivalent to out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Y is the real value of national output (real GDP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796000" y="260280"/>
            <a:ext cx="32036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antity Theory of Money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heory that increase in the money supply will lead to increases in the pri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96000" y="1989000"/>
            <a:ext cx="32036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locity of circ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times the money supply changes hands in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18:22Z</dcterms:created>
  <dc:creator>Rom</dc:creator>
  <dc:description/>
  <dc:language>en-US</dc:language>
  <cp:lastModifiedBy>Julia Peters</cp:lastModifiedBy>
  <dcterms:modified xsi:type="dcterms:W3CDTF">2014-06-22T11:16:24Z</dcterms:modified>
  <cp:revision>19</cp:revision>
  <dc:subject/>
  <dc:title>Inflation and Deflation Chapter 12</dc:title>
</cp:coreProperties>
</file>